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B530-408B-4F3D-9CF6-0C73642AF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8484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A32B-D4B9-402B-8888-BE181A22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691D-A580-4FFB-A3B3-C9874BD0D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6B63-A53C-4DCC-A800-7095D6ED1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4D8C-FE3F-45A7-AE62-7925CA8D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D7CB-FC2B-4EB1-9487-4158DDC7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1267-2E1F-4D3A-B37C-7258B60E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32CD-679A-41DB-A160-CDC2D909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609480"/>
            <a:ext cx="80010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848F-262C-49E1-96A1-9077E2DB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9C95-239C-44B3-BED9-3EAA43E5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9F9A-2ED0-40A0-8C9C-594859B2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7C21-2FCC-4BB0-93EC-6069C51E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1" marL="579240" indent="-22284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2" marL="89136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3" marL="124812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4" marL="160452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5" marL="1604520" indent="-1782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6" marL="1604520" indent="-1782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C57A-E7F0-4FCF-893A-0B47BCD381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AC Futura Casual"/>
              </a:rPr>
              <a:t>Me llamo __________   Clase 6NH (601) La fecha es __ de septiembre del 2012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38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cc"/>
                </a:solidFill>
                <a:latin typeface="CAC Futura Casual"/>
              </a:rPr>
              <a:t>Propósito # 5:</a:t>
            </a:r>
            <a:r>
              <a:rPr b="0" lang="es-ES_tradnl" sz="2800" spc="-1" strike="noStrike">
                <a:solidFill>
                  <a:srgbClr val="ff66cc"/>
                </a:solidFill>
                <a:latin typeface="CAC Futura Casu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CAC Futura Casual"/>
              </a:rPr>
              <a:t>¿Eres buen amigo?</a:t>
            </a:r>
            <a:endParaRPr b="0" lang="en-US" sz="28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cc"/>
                </a:solidFill>
                <a:latin typeface="CAC Futura Casual"/>
              </a:rPr>
              <a:t>Actividad Inicial:</a:t>
            </a:r>
            <a:endParaRPr b="0" lang="en-US" sz="28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66cc"/>
                </a:solidFill>
                <a:latin typeface="CAC Futura Casu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CAC Futura Casual"/>
              </a:rPr>
              <a:t>Copia y responde en oraciones completas:</a:t>
            </a:r>
            <a:endParaRPr b="0" lang="en-US" sz="28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spcBef>
                <a:spcPts val="700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AC Futura Casual"/>
              </a:rPr>
              <a:t>¿Quién eres?</a:t>
            </a:r>
            <a:endParaRPr b="0" lang="en-US" sz="28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spcBef>
                <a:spcPts val="700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AC Futura Casual"/>
              </a:rPr>
              <a:t>¿De dónde eres?</a:t>
            </a:r>
            <a:endParaRPr b="0" lang="en-US" sz="28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spcBef>
                <a:spcPts val="700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AC Futura Casual"/>
              </a:rPr>
              <a:t>¿De qué nacionalidad eres? </a:t>
            </a:r>
            <a:endParaRPr b="0" lang="en-US" sz="28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CAC Futura Casual"/>
              </a:rPr>
              <a:t>Verbos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¿Qué es un “pronombre”?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¿Qué es un “verbo”?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¿Qué significa “conjugar un verbo”?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5" name=""/>
          <p:cNvSpPr/>
          <p:nvPr/>
        </p:nvSpPr>
        <p:spPr>
          <a:xfrm>
            <a:off x="533160" y="1600200"/>
            <a:ext cx="81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Un pronombre es una palabra que remplaza un no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o sustantivo. 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(pronoun replaces a 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1680" y="2895480"/>
            <a:ext cx="7428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Un verbo es una palabra que expresa una ac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(verb is word that expresses an a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6520" y="4038480"/>
            <a:ext cx="7760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onjugar un verbo es, cambiar el verbo para po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usarlo. 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(to conjugate a verb- to change the verb in order to use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66"/>
                </a:solidFill>
                <a:latin typeface="Arial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66"/>
                </a:solidFill>
                <a:latin typeface="Arial"/>
              </a:rPr>
              <a:t>No se dice:        Teresa “ser” colombi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66"/>
                </a:solidFill>
                <a:latin typeface="Arial"/>
              </a:rPr>
              <a:t>Se dice:</a:t>
            </a:r>
            <a:r>
              <a:rPr b="0" i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66"/>
                </a:solidFill>
                <a:latin typeface="Arial"/>
              </a:rPr>
              <a:t>     Teresa </a:t>
            </a:r>
            <a:r>
              <a:rPr b="0" i="1" lang="es-ES_tradnl" sz="2400" spc="-1" strike="noStrike" u="sng">
                <a:solidFill>
                  <a:srgbClr val="ffff66"/>
                </a:solidFill>
                <a:uFillTx/>
                <a:latin typeface="Arial"/>
              </a:rPr>
              <a:t>es</a:t>
            </a:r>
            <a:r>
              <a:rPr b="0" i="1" lang="es-ES_tradnl" sz="2400" spc="-1" strike="noStrike">
                <a:solidFill>
                  <a:srgbClr val="ffff66"/>
                </a:solidFill>
                <a:latin typeface="Arial"/>
              </a:rPr>
              <a:t> colombi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71800" y="5181480"/>
            <a:ext cx="2895480" cy="381240"/>
          </a:xfrm>
          <a:prstGeom prst="line">
            <a:avLst/>
          </a:prstGeom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971440" y="5181480"/>
            <a:ext cx="2895480" cy="304920"/>
          </a:xfrm>
          <a:prstGeom prst="line">
            <a:avLst/>
          </a:prstGeom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CAC Futura Casual"/>
              </a:rPr>
              <a:t>El verbo “Ser”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AC Futura Casual"/>
              </a:rPr>
              <a:t>Unos de los verbos mas importantes en español es el verbo “Ser” </a:t>
            </a:r>
            <a:r>
              <a:rPr b="0" i="1" lang="es-ES_tradnl" sz="3600" spc="-1" strike="noStrike">
                <a:solidFill>
                  <a:srgbClr val="ffffff"/>
                </a:solidFill>
                <a:latin typeface="CAC Futura Casual"/>
              </a:rPr>
              <a:t>(to be)</a:t>
            </a:r>
            <a:r>
              <a:rPr b="0" lang="es-ES_tradnl" sz="3600" spc="-1" strike="noStrike">
                <a:solidFill>
                  <a:srgbClr val="ffffff"/>
                </a:solidFill>
                <a:latin typeface="CAC Futura Casu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66"/>
                </a:solidFill>
                <a:latin typeface="CAC Futura Casual"/>
              </a:rPr>
              <a:t>    </a:t>
            </a:r>
            <a:r>
              <a:rPr b="0" i="1" lang="es-ES_tradnl" sz="2400" spc="-1" strike="noStrike">
                <a:solidFill>
                  <a:srgbClr val="ffff66"/>
                </a:solidFill>
                <a:latin typeface="CAC Futura Casual"/>
              </a:rPr>
              <a:t>(one of the most important verbs in Spanish is the verb “to be”)</a:t>
            </a:r>
            <a:endParaRPr b="0" lang="en-US" sz="2400" spc="-1" strike="noStrike">
              <a:solidFill>
                <a:srgbClr val="ffffff"/>
              </a:solidFill>
              <a:latin typeface="CAC Futura Casu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AC Futura Casual"/>
              </a:rPr>
              <a:t>“</a:t>
            </a:r>
            <a:r>
              <a:rPr b="0" lang="es-ES_tradnl" sz="3600" spc="-1" strike="noStrike">
                <a:solidFill>
                  <a:srgbClr val="ffffff"/>
                </a:solidFill>
                <a:latin typeface="CAC Futura Casual"/>
              </a:rPr>
              <a:t>Ser” es un verbo especial porque no es como los otros verbos. 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CAC Futura Casual"/>
              </a:rPr>
              <a:t>    </a:t>
            </a:r>
            <a:r>
              <a:rPr b="0" lang="es-ES_tradnl" sz="2400" spc="-1" strike="noStrike">
                <a:solidFill>
                  <a:srgbClr val="ffff66"/>
                </a:solidFill>
                <a:latin typeface="CAC Futura Casual"/>
              </a:rPr>
              <a:t>(</a:t>
            </a:r>
            <a:r>
              <a:rPr b="0" i="1" lang="es-ES_tradnl" sz="2400" spc="-1" strike="noStrike">
                <a:solidFill>
                  <a:srgbClr val="ffff66"/>
                </a:solidFill>
                <a:latin typeface="CAC Futura Casual"/>
              </a:rPr>
              <a:t>“to be” is a special verb because it is not like the others)</a:t>
            </a:r>
            <a:endParaRPr b="0" lang="en-US" sz="2400" spc="-1" strike="noStrike">
              <a:solidFill>
                <a:srgbClr val="ffffff"/>
              </a:solidFill>
              <a:latin typeface="CAC Futura Casu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AC Futura Casual"/>
              </a:rPr>
              <a:t>“</a:t>
            </a:r>
            <a:r>
              <a:rPr b="0" lang="es-ES_tradnl" sz="3600" spc="-1" strike="noStrike">
                <a:solidFill>
                  <a:srgbClr val="ffffff"/>
                </a:solidFill>
                <a:latin typeface="CAC Futura Casual"/>
              </a:rPr>
              <a:t>Ser” es un verbo “irregular”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66"/>
                </a:solidFill>
                <a:latin typeface="CAC Futura Casual"/>
              </a:rPr>
              <a:t>	</a:t>
            </a:r>
            <a:r>
              <a:rPr b="0" i="1" lang="es-ES_tradnl" sz="2400" spc="-1" strike="noStrike">
                <a:solidFill>
                  <a:srgbClr val="ffff66"/>
                </a:solidFill>
                <a:latin typeface="CAC Futura Casual"/>
              </a:rPr>
              <a:t>(“to be” is an “irregular” verb)</a:t>
            </a:r>
            <a:endParaRPr b="0" lang="en-US" sz="24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CAC Futura Casual"/>
              </a:rPr>
              <a:t>Conjugacion del verbo “Ser”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C Futura Casual"/>
              </a:rPr>
              <a:t>Para conjugar un verbo, primero necesitamos los pronombres en orden.</a:t>
            </a:r>
            <a:endParaRPr b="0" lang="en-US" sz="28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CAC Futura Casual"/>
              </a:rPr>
              <a:t>(to conjugate a verb, first we need the pronouns in order)</a:t>
            </a:r>
            <a:endParaRPr b="0" lang="en-US" sz="18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C Futura Casual"/>
              </a:rPr>
              <a:t>¿Cómo conjugamos el verbo “ser”? </a:t>
            </a:r>
            <a:endParaRPr b="0" lang="en-US" sz="28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CAC Futura Casual"/>
              </a:rPr>
              <a:t>(how do we conjugate the verb “ser”?)</a:t>
            </a:r>
            <a:endParaRPr b="0" lang="en-US" sz="20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AC Futura Casual"/>
              </a:rPr>
              <a:t>Ser </a:t>
            </a:r>
            <a:r>
              <a:rPr b="0" i="1" lang="en-US" sz="2000" spc="-1" strike="noStrike">
                <a:solidFill>
                  <a:srgbClr val="ffffff"/>
                </a:solidFill>
                <a:latin typeface="CAC Futura Casual"/>
              </a:rPr>
              <a:t>(to be)</a:t>
            </a:r>
            <a:endParaRPr b="0" lang="en-US" sz="20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C Futura Casual"/>
              </a:rPr>
              <a:t>Yo-</a:t>
            </a:r>
            <a:endParaRPr b="0" lang="en-US" sz="28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C Futura Casual"/>
              </a:rPr>
              <a:t>Tú-</a:t>
            </a:r>
            <a:endParaRPr b="0" lang="en-US" sz="28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C Futura Casual"/>
              </a:rPr>
              <a:t>Él ella Ud-</a:t>
            </a:r>
            <a:endParaRPr b="0" lang="en-US" sz="28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C Futura Casual"/>
              </a:rPr>
              <a:t>Nosotros-</a:t>
            </a:r>
            <a:endParaRPr b="0" lang="en-US" sz="28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C Futura Casual"/>
              </a:rPr>
              <a:t>Ellos Ellas Uds.-</a:t>
            </a:r>
            <a:endParaRPr b="0" lang="en-US" sz="2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4" name=""/>
          <p:cNvSpPr/>
          <p:nvPr/>
        </p:nvSpPr>
        <p:spPr>
          <a:xfrm>
            <a:off x="1296720" y="320040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Arial"/>
              </a:rPr>
              <a:t>S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09680" y="327672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I 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21120" y="361152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Arial"/>
              </a:rPr>
              <a:t>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78000" y="365760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you 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7800" y="40384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Arial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93680" y="4114800"/>
            <a:ext cx="41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S/he is, you {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polite/singular}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11120" y="4449600"/>
            <a:ext cx="15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Arial"/>
              </a:rPr>
              <a:t>So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5720" y="45720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we 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77440" y="4876920"/>
            <a:ext cx="9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Arial"/>
              </a:rPr>
              <a:t>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4952880"/>
            <a:ext cx="402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They 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{guys/mixed} {girls}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You 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{polite &amp; familiar/plural}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0920" y="5715000"/>
            <a:ext cx="75920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Arial"/>
              </a:rPr>
              <a:t>***Debes MEMORIZAR el verbo SER*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Arial"/>
              </a:rPr>
              <a:t>*** You must MEMORIZE the verb SER (to be)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WORKBOOK: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Completa p. R2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685800"/>
            <a:ext cx="8001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cc"/>
                </a:solidFill>
                <a:latin typeface="CAC Futura Casual"/>
              </a:rPr>
              <a:t>Tarea #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00:19:06Z</dcterms:created>
  <dc:creator>Helen Zumaeta</dc:creator>
  <dc:description/>
  <dc:language>en-US</dc:language>
  <cp:lastModifiedBy>Helen Zumaeta</cp:lastModifiedBy>
  <dcterms:modified xsi:type="dcterms:W3CDTF">2012-10-02T13:37:33Z</dcterms:modified>
  <cp:revision>14</cp:revision>
  <dc:subject/>
  <dc:title>Me llamo __________   Clase 9N La fecha es 18 de enero del 2012</dc:title>
</cp:coreProperties>
</file>